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14A-6747-4C05-9933-AA90717F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3EF-CE73-4BA9-934F-1BB77D31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C1A-03EA-4B36-8652-963AFA3D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26F-FEAA-4295-9A4C-4EED63D1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A324-A42C-4629-ADB8-AACBB649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9552-A5F2-470B-8A6A-C967EAE8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8374-1117-42E8-815A-C1F1C39C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6661-229C-4207-8EE3-CE7F0B1D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C7F1-4E4C-42EF-BEAA-79F5B134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83BD-60A1-43C2-814D-6578C240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71DE-AF75-4708-9DC0-8BCD596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496-3AE0-4E0B-83C2-9A629E4A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6E82-FA7B-452B-BF85-F5725895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8110-688F-45F1-8D34-1E54B247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B9EB-1383-4938-B695-C58EACC3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7D0C-1372-43C7-B792-00F8A415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9BC9-160A-4DB3-A87F-7A211584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E69-F1C5-4A27-9964-4FA6D9C8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711-7AD5-496D-BC2B-B6F2DBB2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74A-9775-429F-AC9B-3501180C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B91-231A-40CC-BF56-455A1ABF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A52-1D06-4DAE-90AC-FC71E49F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D0D-F253-458D-8905-10D0FAF7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628-86F3-4DAA-B6C6-054F049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15A5-8D31-466D-9F3B-67C2480A2A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C980-B72F-4308-8ECC-7E1F0500BB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World War II</a:t>
            </a:r>
            <a:endParaRPr b="0" i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view Power Poin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WII  Axis/Allied Power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9144000" cy="37335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x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rmany - Adolf Hi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aly - Benito Mussoli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pan - Emperor Sh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ttan - Winston Church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viet Union - Joseph Stal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ed States - FDR (1933-1945), Truman (194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Other WWII Term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ppeasement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policy of giving in to demands in order to preserve the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litz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wift and violent military offensive with intensive aerial bombard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aggression Pact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non-aggression pact is an international treaty between two or more states, agreeing to avoid war or armed conflict between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sland Hopping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t involves a leapfrogging movement of forces from one strategic island to the next cutting off supplies to other isl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auses of WWII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pan seeks to increase territory for need of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pan brought US into the war by taking control of the US colonies in the pacific (Philippines, Midway, Gu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rmany was taking control of land and continued to after the Treaty of Versail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cism, Isolationism, Militarism, Nation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4:01:08Z</dcterms:created>
  <dc:creator>Yarmouth Schools</dc:creator>
  <dc:description/>
  <dc:language>en-US</dc:language>
  <cp:lastModifiedBy>YHS Teacher</cp:lastModifiedBy>
  <dcterms:modified xsi:type="dcterms:W3CDTF">2009-06-15T15:09:18Z</dcterms:modified>
  <cp:revision>3</cp:revision>
  <dc:subject/>
  <dc:title>World War II</dc:title>
</cp:coreProperties>
</file>